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125E-B46C-40C4-9DC3-60510016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8188-18E7-4B97-992B-4F59F15A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6F3-5A44-4339-9E0D-B988A73F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E112-A9C3-46B3-BC3F-A1CA7C4C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1FD6-12C7-44CA-B299-3CBDB15F0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4D96-DEAC-4A23-B4C4-AE259B3C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1AF8-5E2F-47B0-9B84-CBB23C4D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B16E-8929-4CA4-813F-00D802D2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1D9B2-6049-41CB-B383-B6A14C4A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3B55-69E9-412D-BE19-4487D217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6071-5285-4A0F-8E90-F7250D83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62B-30A6-4ED4-96CF-165D3B72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747B-7903-4261-B24C-69AF6209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D977-7B40-47F3-AF32-0F7DB8D2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A584E-2EDB-4283-B3AA-C1173071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534E-5EFC-44EE-B551-10F575EE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DEE25-3862-44A1-8890-46408A22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8D00-01F9-4F12-AFED-FE365605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2FD8-1FBC-4473-8238-4411D3BB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BA1E0-9360-4605-8447-B117CA2C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3346A-5E18-4336-9B01-A1FFF16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8F37E-7A43-497C-94A1-69814923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C9F-A21E-453C-A5E3-8008B7E5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DBEC-04A5-4878-AAB5-16B999099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6D7DB-6901-46B4-B781-B9AE282B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598A-731A-495C-AC25-450347AE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60A6C-4AEE-463D-9BC8-DFA9EB59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19EC-5252-4CF8-83BA-F89B3C67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B801-8F23-4E46-9A1A-173FB274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D8F9-8B6A-49A8-95BB-FF029474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F57D9-FE62-4F4F-A4E4-59CFF3B1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D06F0-BC58-476F-995C-64081E81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DDE63-C6B3-4419-8ADA-CE2D63A3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B6C-F21B-4E99-BEFD-9754C0CE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5CE81-3B54-454B-9007-6630F4BE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E07E-92D2-4BB1-B933-6EF969D4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727DF-4AE3-4979-88E9-F89E9640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2ED6-1BEC-40F2-8B22-52D6017D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AC39E5-6B03-4B51-A097-E9FDC579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A0102-78DE-4B85-B435-308E69F0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1C526-733B-4D9A-9A44-D4878353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420DC-DC86-48AC-9F36-241D4145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8AE3A-BF13-4BD1-B809-BC50A593B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5D93A-DB91-4E98-98DD-94F280BE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02E3-EA68-4242-8A5B-AE58E494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9B524-A6C4-4A4B-B9B3-B8D5722F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E9FA0-BE88-4196-BA7C-E7DF6629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B3865-5B7D-4C66-A293-EDBA0DB6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7458-F121-4C14-B2C3-2FAD3CC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4DAB-2B21-44F5-AF6E-040B0F3D6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6EB1F-10B0-4A3A-866E-D368654A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FD832-247A-437C-8507-291540AB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85DBF-5DD4-476B-B2AB-26CD4692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90FB8-A2FF-4DD3-BF5C-6DDB540A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F3102-FC22-42EF-9F37-16FCBB47C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86C2-F570-47F0-859A-99874E5D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B3F92-7393-4DEA-8C2C-6B6EBD0AB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9A2A0-D34F-43D1-9B82-58335B3D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693DF4-B0C7-44D2-81CC-6003C772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35576-949B-467A-860B-7712A885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CDB4E-2DA4-48F3-81C9-5C3CE4426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1F526-D73B-464A-A276-AD5A0BF4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FB8E3-85B7-4D54-B3FE-6739A6AF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4F4FC-6B50-4FBB-AD3F-A8F0C739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A0888-F473-4A9C-A4FC-549339C8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449AF-BA87-4F1D-9B66-467DECCA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0C2E-D8AF-4AB9-A0B9-95E4C565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1B92D-7970-4065-953C-83E2AE2B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C8623-E102-4FF8-AF21-6F0EF5AE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31846-C97B-4B9E-B97D-620127D8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8D8F4-F496-44DE-90C1-8C89DAF3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CE76-2142-4A51-9FEC-32D98012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8899B-F868-4F60-9718-FF0EEF96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CF0C6-EE06-4F59-9D80-E118485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FCF7A-A11B-4345-809E-B3505602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6F525-1D3C-472B-A076-F6F3F095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9C3FB6-F0AD-43E4-BC24-E521FBEC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320-927E-471C-818A-D0F0B445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7F504-D136-4248-91E1-5A2A78A9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514A8-1610-42EF-85E6-862B2684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ED823-872E-4C16-99B3-B2758EDB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C7FF0-CC12-4E35-AD1B-6C396B1F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6B211-09CF-4066-9EC2-462DCFBAA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003-C1B2-4F15-88B0-8BC93EB66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227AC-B5DC-40F5-B243-A0DAC3935776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C39D-88BC-4565-AAFB-21C6ACF555A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F04C-ABBF-4D20-9DFC-947333E5F34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9A93-E5F7-4E69-B08E-ACAB25A6A8FC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A171-9A43-4D89-A38B-95E94F33160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434D-33DF-4B72-A2A7-CF6DDF6DEA8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9DD7-0A22-4F1C-B355-48BF92E9BE4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2203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«Коневская основная общеобразовательная школа»</a:t>
            </a:r>
            <a:br>
              <a:rPr sz="2000"/>
            </a:b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Преодоление разрыва в образовательных возможностях и достижениях обучающихся, обусловленных социально-экономическими характеристиками их семей, сложностью контингента и их переход в статус резильентных за счёт повышения педагогического и ресурсного потенциала школы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595959"/>
                </a:solidFill>
                <a:latin typeface="Corbel"/>
              </a:rPr>
              <a:t>2020 -2021 уч. год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4" descr="C:\Users\Инна\AppData\Local\Microsoft\Windows\Temporary Internet Files\Content.IE5\5WAUPLBX\81266624ef02[1].png"/>
          <p:cNvPicPr/>
          <p:nvPr/>
        </p:nvPicPr>
        <p:blipFill>
          <a:blip r:embed="rId1"/>
          <a:stretch/>
        </p:blipFill>
        <p:spPr>
          <a:xfrm>
            <a:off x="1830240" y="3860640"/>
            <a:ext cx="24544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611617"/>
                </a:solidFill>
                <a:latin typeface="Corbel"/>
              </a:rPr>
              <a:t>Описание ситуации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МБОУ «Коневская ООШ» расположена в Балахнинском районе Нижегородской области в деревне Конево. В школе 60 обучающихся 1-9 классов, 12 учителей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Одной из ключевых проблем  школы являлась недостаточная предметная и методическая компетентность педагогических работников. 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Не все педагоги в полной мере усвоили приемы работы с мультимедиа и другой современной аппаратурой, проведение онлайн-уроков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434960" y="1268280"/>
            <a:ext cx="74995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Основная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ка и реализация комплекса мер по снижению уровня значимости рисков снижения результатов обучения для перехода школы в статус резильентных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190d"/>
                </a:solidFill>
                <a:latin typeface="Times New Roman"/>
                <a:ea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02920" y="404280"/>
            <a:ext cx="7489800" cy="129564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Основная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1800" spc="-1" strike="noStrike">
                <a:solidFill>
                  <a:srgbClr val="572314"/>
                </a:solidFill>
                <a:latin typeface="Corbel"/>
              </a:rPr>
              <a:t>задача:</a:t>
            </a:r>
            <a:br>
              <a:rPr sz="1800"/>
            </a:b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677600" y="907560"/>
            <a:ext cx="7070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работка и реализация программы методической работы с педагогами, имеющими предметные и методические дефициты компетентнос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 проведение консультирования педагогов с низкими предметными и методическими компетентностям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организация прохождения курсов повышения квалификации и в соответствии с выявленными профессиональными дефицитами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разработка и реализация индивидуальных планов профессионального развития педагогов по ликвидации профессиональных дефицитов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- подготовка и организация мероприятий по обмену опытом между педагогами школ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72314"/>
                </a:solidFill>
                <a:latin typeface="Corbel"/>
              </a:rPr>
              <a:t>Описание результата</a:t>
            </a:r>
            <a:endParaRPr b="0" lang="en-US" sz="2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692280"/>
            <a:ext cx="7499520" cy="555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Инструментарий диагностик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	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роведение мониторинга профессиональных компетентностей педагогов. Разработка инструментария и проведение диагностики профессиональных компетентностей педагогов: диагностика проведена на сайте Я Учитель  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(«Профиль компетенций»)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с указанием результатов компетенций учителей, через определенный период  времени проведена повторная диагностика (результаты указаны в диаграмме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7" name="Диаграмма 4" descr=""/>
          <p:cNvPicPr/>
          <p:nvPr/>
        </p:nvPicPr>
        <p:blipFill>
          <a:blip r:embed="rId1"/>
          <a:stretch/>
        </p:blipFill>
        <p:spPr>
          <a:xfrm>
            <a:off x="2289240" y="3017880"/>
            <a:ext cx="55735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3972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     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Разработана программа методической работы с педагогами, имеющими предметные и методические дефициты компетентностей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Содержательный план проведения консультаций педагогов с низкими предметными и методическими компетентностями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График прохождения курсов повышения квалификации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дивидуальны планы профессионального развития педагогов по ликвидации профессиональных дефицит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Банк методических материалов педагогов, мультимедийные презентации  с описанием опыта педагогов.</a:t>
            </a:r>
            <a:br>
              <a:rPr sz="1800"/>
            </a:b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       Информационная справка с выводами о динамике уровня развития предметных и методических компетентностей педагогов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5" descr="C:\Users\A4F7~1\AppData\Local\Temp\Rar$DIa2644.22603\1624528579928.jpg"/>
          <p:cNvPicPr/>
          <p:nvPr/>
        </p:nvPicPr>
        <p:blipFill>
          <a:blip r:embed="rId1"/>
          <a:stretch/>
        </p:blipFill>
        <p:spPr>
          <a:xfrm>
            <a:off x="1692360" y="3825720"/>
            <a:ext cx="1660320" cy="22212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C:\Users\A4F7~1\AppData\Local\Temp\Rar$DIa2644.30585\1624528581606.jpg"/>
          <p:cNvPicPr/>
          <p:nvPr/>
        </p:nvPicPr>
        <p:blipFill>
          <a:blip r:embed="rId2"/>
          <a:stretch/>
        </p:blipFill>
        <p:spPr>
          <a:xfrm>
            <a:off x="3848040" y="3828960"/>
            <a:ext cx="1660680" cy="2217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C:\Users\A4F7~1\AppData\Local\Temp\Rar$DIa2644.37208\1624528582314.jpg"/>
          <p:cNvPicPr/>
          <p:nvPr/>
        </p:nvPicPr>
        <p:blipFill>
          <a:blip r:embed="rId3"/>
          <a:stretch/>
        </p:blipFill>
        <p:spPr>
          <a:xfrm>
            <a:off x="6084720" y="3825720"/>
            <a:ext cx="1656000" cy="2214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C:\Users\Андрей\Downloads\1624529682694.jpg"/>
          <p:cNvPicPr/>
          <p:nvPr/>
        </p:nvPicPr>
        <p:blipFill>
          <a:blip r:embed="rId4"/>
          <a:stretch/>
        </p:blipFill>
        <p:spPr>
          <a:xfrm>
            <a:off x="-9791640" y="-15773400"/>
            <a:ext cx="25192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72314"/>
                </a:solidFill>
                <a:latin typeface="Corbel"/>
              </a:rPr>
              <a:t>Заключение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434960" y="836280"/>
            <a:ext cx="7499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ложительная динамика уровня развития предметных и методических компетентностей педагог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Повышение качества знаний</a:t>
            </a:r>
            <a:r>
              <a:rPr b="1" lang="ru-RU" sz="1800" spc="-1" strike="noStrike">
                <a:solidFill>
                  <a:srgbClr val="595959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  обучающихся основной школы в 2020-2021 учебном году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95959"/>
                </a:solidFill>
                <a:latin typeface="Corbel"/>
              </a:rPr>
              <a:t>Улучшились результаты ОГЭ. Все выпускники школы закончили обучение на «4» и «5»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Диаграмма 3" descr=""/>
          <p:cNvPicPr/>
          <p:nvPr/>
        </p:nvPicPr>
        <p:blipFill>
          <a:blip r:embed="rId1"/>
          <a:stretch/>
        </p:blipFill>
        <p:spPr>
          <a:xfrm>
            <a:off x="2505240" y="2873520"/>
            <a:ext cx="398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07:36:20Z</dcterms:created>
  <dc:creator>1</dc:creator>
  <dc:description/>
  <dc:language>en-US</dc:language>
  <cp:lastModifiedBy>Андрей</cp:lastModifiedBy>
  <dcterms:modified xsi:type="dcterms:W3CDTF">2021-06-24T10:40:09Z</dcterms:modified>
  <cp:revision>162</cp:revision>
  <dc:subject/>
  <dc:title>Министерство образования Российской Федерации Среднего профессионального образования Нижегородский машиностроительный техникум</dc:title>
</cp:coreProperties>
</file>